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gif" ContentType="image/gi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10.jpeg" ContentType="image/jpeg"/>
  <Override PartName="/ppt/media/image5.png" ContentType="image/png"/>
  <Override PartName="/ppt/media/image2.gif" ContentType="image/gi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69A8-A594-4A3F-A690-E5CA9605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740B-99CE-4412-8751-D0E1D4A8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7CCC-0760-407C-B82C-988D9E3F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3D09-E7EE-4884-B483-6CF53755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961B-5E6F-4BB2-9BF1-1E5BABA7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8335-5015-4110-BC37-B40D142C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21FD-7503-4A88-A655-1E748616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C1DE-D436-4620-9E7F-10A1FE80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668B-1EA0-4486-90E6-BED6651F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8580-94A8-4D75-8B0E-858EEE29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9B30-0C66-4ECE-BE33-AFA7C502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7628-387F-4559-B846-956627E7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7A70-F08C-4DE3-99F7-1DD3AD9A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9303-0FAC-4C56-A150-A904F5CA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76D4-D8B1-4DB6-89BB-728DEB5E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CEEA-6B58-4A6B-80BB-7EFBE8D6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D882-8B98-4E83-89E9-7414E272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C8813-19D8-46FB-8DDA-931A90AE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225E7-0D0D-41F3-8D09-B7D09F5E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1F6B5-E694-4BA5-BA41-1F988C00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C2C99-FB5D-4CF1-B596-CFCD38E8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367E8-4A60-452A-83DE-FE472BD5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890B-76D3-4B6E-9CBE-D6DD754D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9D6B-1429-4C77-AB6D-DA513177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2954-5560-4C17-94F3-7522D2420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C96A-3BF3-4ADD-8766-CF451173F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hyperlink" Target="http://oberon.seversk.ru/images/stories/ppr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oberon.seversk.ru/images/stories/ppr.pn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lovari.yandex.ru/dict/bse/article/00064/79600.htm" TargetMode="Externa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.xml"/><Relationship Id="rId7" Type="http://schemas.openxmlformats.org/officeDocument/2006/relationships/hyperlink" Target="http://klopp.ru/" TargetMode="Externa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8;&#1077;&#1076;&#1085;&#1077;&#1077;" TargetMode="External"/><Relationship Id="rId2" Type="http://schemas.openxmlformats.org/officeDocument/2006/relationships/hyperlink" Target="http://ru.wikipedia.org/wiki/&#1057;&#1088;&#1077;&#1076;&#1085;&#1077;&#1077;" TargetMode="External"/><Relationship Id="rId3" Type="http://schemas.openxmlformats.org/officeDocument/2006/relationships/hyperlink" Target="http://ru.wikipedia.org/wiki/&#1057;&#1088;&#1077;&#1076;&#1085;&#1077;&#1077;" TargetMode="External"/><Relationship Id="rId4" Type="http://schemas.openxmlformats.org/officeDocument/2006/relationships/hyperlink" Target="http://ru.wikipedia.org/wiki/&#1057;&#1088;&#1077;&#1076;&#1085;&#1077;&#1077;" TargetMode="External"/><Relationship Id="rId5" Type="http://schemas.openxmlformats.org/officeDocument/2006/relationships/hyperlink" Target="http://ru.wikipedia.org/wiki/&#1057;&#1088;&#1077;&#1076;&#1085;&#1077;&#1077;" TargetMode="External"/><Relationship Id="rId6" Type="http://schemas.openxmlformats.org/officeDocument/2006/relationships/hyperlink" Target="http://www.cyberguru.ru/programming/pascal/turbopascal-encyclopaedia2-page5.html" TargetMode="External"/><Relationship Id="rId7" Type="http://schemas.openxmlformats.org/officeDocument/2006/relationships/hyperlink" Target="http://www.cyberguru.ru/programming/pascal/turbopascal-encyclopaedia2-page5.html" TargetMode="External"/><Relationship Id="rId8" Type="http://schemas.openxmlformats.org/officeDocument/2006/relationships/hyperlink" Target="http://www.cyberguru.ru/programming/pascal/turbopascal-encyclopaedia2-page5.html" TargetMode="External"/><Relationship Id="rId9" Type="http://schemas.openxmlformats.org/officeDocument/2006/relationships/hyperlink" Target="http://www.cyberguru.ru/programming/pascal/turbopascal-encyclopaedia2-page5.html" TargetMode="External"/><Relationship Id="rId10" Type="http://schemas.openxmlformats.org/officeDocument/2006/relationships/hyperlink" Target="http://www.cyberguru.ru/programming/pascal/turbopascal-encyclopaedia2-page5.html" TargetMode="External"/><Relationship Id="rId11" Type="http://schemas.openxmlformats.org/officeDocument/2006/relationships/hyperlink" Target="http://www.cyberguru.ru/programming/pascal/turbopascal-encyclopaedia2-page5.html" TargetMode="External"/><Relationship Id="rId12" Type="http://schemas.openxmlformats.org/officeDocument/2006/relationships/hyperlink" Target="http://www.cyberguru.ru/programming/pascal/turbopascal-encyclopaedia2-page5.html" TargetMode="External"/><Relationship Id="rId13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4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5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6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7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8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19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0" Type="http://schemas.openxmlformats.org/officeDocument/2006/relationships/hyperlink" Target="http://www.wikiznanie.ru/ru-wz/index.php/&#1057;&#1088;&#1077;&#1076;&#1085;&#1077;&#1077;_&#1079;&#1085;&#1072;&#1095;&#1077;&#1085;&#1080;&#1077;" TargetMode="Externa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.xml"/><Relationship Id="rId26" Type="http://schemas.openxmlformats.org/officeDocument/2006/relationships/hyperlink" Target="http://klopp.ru/" TargetMode="External"/><Relationship Id="rId27" Type="http://schemas.openxmlformats.org/officeDocument/2006/relationships/image" Target="../media/image5.png"/><Relationship Id="rId2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2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3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4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5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6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7" Type="http://schemas.openxmlformats.org/officeDocument/2006/relationships/hyperlink" Target="http://ru.wikipedia.org/wiki/&#1052;&#1077;&#1076;&#1080;&#1072;&#1085;&#1072;_(&#1089;&#1090;&#1072;&#1090;&#1080;&#1089;&#1090;&#1080;&#1082;&#1072;)_" TargetMode="External"/><Relationship Id="rId8" Type="http://schemas.openxmlformats.org/officeDocument/2006/relationships/hyperlink" Target="http://www.statsoft.ru/home/portal/glossary/glossarytwo/M%5CMedian.htm" TargetMode="External"/><Relationship Id="rId9" Type="http://schemas.openxmlformats.org/officeDocument/2006/relationships/hyperlink" Target="http://www.statsoft.ru/home/portal/glossary/glossarytwo/M%5CMedian.htm" TargetMode="External"/><Relationship Id="rId10" Type="http://schemas.openxmlformats.org/officeDocument/2006/relationships/hyperlink" Target="http://www.statsoft.ru/home/portal/glossary/glossarytwo/M%5CMedian.htm" TargetMode="External"/><Relationship Id="rId11" Type="http://schemas.openxmlformats.org/officeDocument/2006/relationships/hyperlink" Target="http://www.statsoft.ru/home/portal/glossary/glossarytwo/M%5CMedian.htm" TargetMode="External"/><Relationship Id="rId12" Type="http://schemas.openxmlformats.org/officeDocument/2006/relationships/hyperlink" Target="http://www.statsoft.ru/home/portal/glossary/glossarytwo/M%5CMedian.htm" TargetMode="External"/><Relationship Id="rId13" Type="http://schemas.openxmlformats.org/officeDocument/2006/relationships/hyperlink" Target="http://www.statsoft.ru/home/portal/glossary/glossarytwo/M%5CMedian.htm" TargetMode="External"/><Relationship Id="rId14" Type="http://schemas.openxmlformats.org/officeDocument/2006/relationships/hyperlink" Target="http://www.statsoft.ru/home/portal/glossary/glossarytwo/M%5CMedian.htm" TargetMode="External"/><Relationship Id="rId15" Type="http://schemas.openxmlformats.org/officeDocument/2006/relationships/hyperlink" Target="http://www.statsoft.ru/home/portal/glossary/glossarytwo/M%5CMedian.htm" TargetMode="External"/><Relationship Id="rId16" Type="http://schemas.openxmlformats.org/officeDocument/2006/relationships/hyperlink" Target="http://www.statsoft.ru/home/portal/glossary/glossarytwo/M%5CMedian.htm" TargetMode="External"/><Relationship Id="rId17" Type="http://schemas.openxmlformats.org/officeDocument/2006/relationships/hyperlink" Target="http://www.statsoft.ru/home/portal/glossary/glossarytwo/M%5CMedian.htm" TargetMode="External"/><Relationship Id="rId18" Type="http://schemas.openxmlformats.org/officeDocument/2006/relationships/hyperlink" Target="http://www.statsoft.ru/home/portal/glossary/glossarytwo/M%5CMedian.htm" TargetMode="External"/><Relationship Id="rId19" Type="http://schemas.openxmlformats.org/officeDocument/2006/relationships/hyperlink" Target="http://nirvana.tomsk.ru/dictionary?id=9&amp;word=%EC%E5%E4%E8%E0%ED%E0/" TargetMode="External"/><Relationship Id="rId20" Type="http://schemas.openxmlformats.org/officeDocument/2006/relationships/hyperlink" Target="http://dic.academic.ru/dic.nsf/bse/166012/&#1052;&#1077;&#1076;&#1080;&#1072;&#1085;&#1072;" TargetMode="External"/><Relationship Id="rId21" Type="http://schemas.openxmlformats.org/officeDocument/2006/relationships/hyperlink" Target="http://dic.academic.ru/dic.nsf/bse/166012/&#1052;&#1077;&#1076;&#1080;&#1072;&#1085;&#1072;" TargetMode="External"/><Relationship Id="rId22" Type="http://schemas.openxmlformats.org/officeDocument/2006/relationships/hyperlink" Target="http://dic.academic.ru/dic.nsf/bse/166012/&#1052;&#1077;&#1076;&#1080;&#1072;&#1085;&#1072;" TargetMode="External"/><Relationship Id="rId23" Type="http://schemas.openxmlformats.org/officeDocument/2006/relationships/hyperlink" Target="http://dic.academic.ru/dic.nsf/bse/166012/&#1052;&#1077;&#1076;&#1080;&#1072;&#1085;&#1072;" TargetMode="External"/><Relationship Id="rId24" Type="http://schemas.openxmlformats.org/officeDocument/2006/relationships/hyperlink" Target="http://dic.academic.ru/dic.nsf/bse/166012/&#1052;&#1077;&#1076;&#1080;&#1072;&#1085;&#1072;" TargetMode="External"/><Relationship Id="rId25" Type="http://schemas.openxmlformats.org/officeDocument/2006/relationships/hyperlink" Target="http://dic.academic.ru/dic.nsf/bse/166012/&#1052;&#1077;&#1076;&#1080;&#1072;&#1085;&#1072;" TargetMode="External"/><Relationship Id="rId26" Type="http://schemas.openxmlformats.org/officeDocument/2006/relationships/hyperlink" Target="http://dic.academic.ru/dic.nsf/bse/166012/&#1052;&#1077;&#1076;&#1080;&#1072;&#1085;&#1072;" TargetMode="External"/><Relationship Id="rId27" Type="http://schemas.openxmlformats.org/officeDocument/2006/relationships/slide" Target="slide18.xml"/><Relationship Id="rId28" Type="http://schemas.openxmlformats.org/officeDocument/2006/relationships/slide" Target="slide19.xml"/><Relationship Id="rId29" Type="http://schemas.openxmlformats.org/officeDocument/2006/relationships/slide" Target="slide20.xml"/><Relationship Id="rId30" Type="http://schemas.openxmlformats.org/officeDocument/2006/relationships/slide" Target="slide22.xml"/><Relationship Id="rId31" Type="http://schemas.openxmlformats.org/officeDocument/2006/relationships/slide" Target="slide2.xml"/><Relationship Id="rId32" Type="http://schemas.openxmlformats.org/officeDocument/2006/relationships/hyperlink" Target="http://klopp.ru/" TargetMode="External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3p/207574" TargetMode="External"/><Relationship Id="rId2" Type="http://schemas.openxmlformats.org/officeDocument/2006/relationships/hyperlink" Target="http://dic.academic.ru/dic.nsf/enc3p/207574" TargetMode="External"/><Relationship Id="rId3" Type="http://schemas.openxmlformats.org/officeDocument/2006/relationships/hyperlink" Target="http://dic.academic.ru/dic.nsf/enc3p/207574" TargetMode="External"/><Relationship Id="rId4" Type="http://schemas.openxmlformats.org/officeDocument/2006/relationships/hyperlink" Target="http://dic.academic.ru/dic.nsf/enc3p/207574" TargetMode="External"/><Relationship Id="rId5" Type="http://schemas.openxmlformats.org/officeDocument/2006/relationships/hyperlink" Target="http://dic.academic.ru/dic.nsf/enc3p/207574" TargetMode="External"/><Relationship Id="rId6" Type="http://schemas.openxmlformats.org/officeDocument/2006/relationships/hyperlink" Target="http://www.cultinfo.ru/fulltext/1/001/008/079/808.htm" TargetMode="External"/><Relationship Id="rId7" Type="http://schemas.openxmlformats.org/officeDocument/2006/relationships/hyperlink" Target="http://www.cultinfo.ru/fulltext/1/001/008/079/808.htm" TargetMode="External"/><Relationship Id="rId8" Type="http://schemas.openxmlformats.org/officeDocument/2006/relationships/hyperlink" Target="http://www.cultinfo.ru/fulltext/1/001/008/079/808.htm" TargetMode="External"/><Relationship Id="rId9" Type="http://schemas.openxmlformats.org/officeDocument/2006/relationships/hyperlink" Target="http://www.cultinfo.ru/fulltext/1/001/008/079/808.htm" TargetMode="External"/><Relationship Id="rId10" Type="http://schemas.openxmlformats.org/officeDocument/2006/relationships/hyperlink" Target="http://www.cultinfo.ru/fulltext/1/001/008/079/808.htm" TargetMode="Externa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21.xml"/><Relationship Id="rId15" Type="http://schemas.openxmlformats.org/officeDocument/2006/relationships/slide" Target="slide2.xml"/><Relationship Id="rId16" Type="http://schemas.openxmlformats.org/officeDocument/2006/relationships/hyperlink" Target="http://klopp.ru/" TargetMode="External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neurosoft.ru/rus/product/book/hrv-2/chapter5.aspx" TargetMode="External"/><Relationship Id="rId2" Type="http://schemas.openxmlformats.org/officeDocument/2006/relationships/hyperlink" Target="http://www.neurosoft.ru/rus/product/book/hrv-2/chapter5.aspx" TargetMode="External"/><Relationship Id="rId3" Type="http://schemas.openxmlformats.org/officeDocument/2006/relationships/hyperlink" Target="http://www.neurosoft.ru/rus/product/book/hrv-2/chapter5.aspx" TargetMode="External"/><Relationship Id="rId4" Type="http://schemas.openxmlformats.org/officeDocument/2006/relationships/hyperlink" Target="http://www.neurosoft.ru/rus/product/book/hrv-2/chapter5.aspx" TargetMode="External"/><Relationship Id="rId5" Type="http://schemas.openxmlformats.org/officeDocument/2006/relationships/hyperlink" Target="http://www.neurosoft.ru/rus/product/book/hrv-2/chapter5.aspx" TargetMode="External"/><Relationship Id="rId6" Type="http://schemas.openxmlformats.org/officeDocument/2006/relationships/hyperlink" Target="http://www.neurosoft.ru/rus/product/book/hrv-2/chapter5.aspx" TargetMode="External"/><Relationship Id="rId7" Type="http://schemas.openxmlformats.org/officeDocument/2006/relationships/hyperlink" Target="http://www.neurosoft.ru/rus/product/book/hrv-2/chapter5.aspx" TargetMode="External"/><Relationship Id="rId8" Type="http://schemas.openxmlformats.org/officeDocument/2006/relationships/hyperlink" Target="http://www.neurosoft.ru/rus/product/book/hrv-2/chapter5.aspx" TargetMode="External"/><Relationship Id="rId9" Type="http://schemas.openxmlformats.org/officeDocument/2006/relationships/hyperlink" Target="http://www.neurosoft.ru/rus/product/book/hrv-2/chapter5.aspx" TargetMode="External"/><Relationship Id="rId10" Type="http://schemas.openxmlformats.org/officeDocument/2006/relationships/slide" Target="slide24.xml"/><Relationship Id="rId11" Type="http://schemas.openxmlformats.org/officeDocument/2006/relationships/slide" Target="slide25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" Target="slide2.xml"/><Relationship Id="rId15" Type="http://schemas.openxmlformats.org/officeDocument/2006/relationships/hyperlink" Target="http://klopp.ru/" TargetMode="External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exualdysfunction.ru/148.html" TargetMode="External"/><Relationship Id="rId2" Type="http://schemas.openxmlformats.org/officeDocument/2006/relationships/hyperlink" Target="http://www.sexualdysfunction.ru/148.html" TargetMode="External"/><Relationship Id="rId3" Type="http://schemas.openxmlformats.org/officeDocument/2006/relationships/hyperlink" Target="http://www.sexualdysfunction.ru/148.html" TargetMode="External"/><Relationship Id="rId4" Type="http://schemas.openxmlformats.org/officeDocument/2006/relationships/hyperlink" Target="http://www.sexualdysfunction.ru/148.html" TargetMode="External"/><Relationship Id="rId5" Type="http://schemas.openxmlformats.org/officeDocument/2006/relationships/slide" Target="slide23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.xml"/><Relationship Id="rId10" Type="http://schemas.openxmlformats.org/officeDocument/2006/relationships/hyperlink" Target="http://klopp.ru/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team.ru/publications/finances/section_11/article_3389/" TargetMode="External"/><Relationship Id="rId2" Type="http://schemas.openxmlformats.org/officeDocument/2006/relationships/hyperlink" Target="http://www.iteam.ru/publications/finances/section_11/article_3389/" TargetMode="External"/><Relationship Id="rId3" Type="http://schemas.openxmlformats.org/officeDocument/2006/relationships/hyperlink" Target="http://www.iteam.ru/publications/finances/section_11/article_3389/" TargetMode="External"/><Relationship Id="rId4" Type="http://schemas.openxmlformats.org/officeDocument/2006/relationships/hyperlink" Target="http://www.iteam.ru/publications/finances/section_11/article_3389/" TargetMode="External"/><Relationship Id="rId5" Type="http://schemas.openxmlformats.org/officeDocument/2006/relationships/hyperlink" Target="http://www.iteam.ru/publications/finances/section_11/article_3389/" TargetMode="External"/><Relationship Id="rId6" Type="http://schemas.openxmlformats.org/officeDocument/2006/relationships/hyperlink" Target="http://www.iteam.ru/publications/finances/section_11/article_3389/" TargetMode="External"/><Relationship Id="rId7" Type="http://schemas.openxmlformats.org/officeDocument/2006/relationships/hyperlink" Target="http://www.iteam.ru/publications/finances/section_11/article_3389/" TargetMode="External"/><Relationship Id="rId8" Type="http://schemas.openxmlformats.org/officeDocument/2006/relationships/slide" Target="slide23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7.xml"/><Relationship Id="rId12" Type="http://schemas.openxmlformats.org/officeDocument/2006/relationships/slide" Target="slide2.xml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climate.mecom.ru/bulletins/2002/index.html" TargetMode="External"/><Relationship Id="rId2" Type="http://schemas.openxmlformats.org/officeDocument/2006/relationships/hyperlink" Target="http://climate.mecom.ru/bulletins/2002/index.html" TargetMode="External"/><Relationship Id="rId3" Type="http://schemas.openxmlformats.org/officeDocument/2006/relationships/hyperlink" Target="http://climate.mecom.ru/bulletins/2002/index.html" TargetMode="External"/><Relationship Id="rId4" Type="http://schemas.openxmlformats.org/officeDocument/2006/relationships/hyperlink" Target="http://climate.mecom.ru/bulletins/2002/index.html" TargetMode="External"/><Relationship Id="rId5" Type="http://schemas.openxmlformats.org/officeDocument/2006/relationships/hyperlink" Target="http://climate.mecom.ru/bulletins/2002/index.html" TargetMode="External"/><Relationship Id="rId6" Type="http://schemas.openxmlformats.org/officeDocument/2006/relationships/hyperlink" Target="http://climate.mecom.ru/bulletins/2002/index.html" TargetMode="Externa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.xml"/><Relationship Id="rId12" Type="http://schemas.openxmlformats.org/officeDocument/2006/relationships/image" Target="../media/image7.png"/><Relationship Id="rId13" Type="http://schemas.openxmlformats.org/officeDocument/2006/relationships/hyperlink" Target="http://klopp.ru/" TargetMode="Externa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.xml"/><Relationship Id="rId6" Type="http://schemas.openxmlformats.org/officeDocument/2006/relationships/hyperlink" Target="http://klopp.ru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3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37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" Target="slide2.xml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2.xml"/><Relationship Id="rId4" Type="http://schemas.openxmlformats.org/officeDocument/2006/relationships/hyperlink" Target="http://oberon.seversk.ru/images/stories/ppr.png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hyperlink" Target="http://images.yandex.ru/yandsearch?p=0&amp;text=&#1082;&#1072;&#1088;&#1090;&#1080;&#1085;&#1082;&#1080;%20&#1076;&#1083;&#1103;%20&#1088;&#1077;&#1092;&#1077;&#1088;&#1072;&#1090;&#1072;%2C%20&#1086;&#1092;&#1080;&#1089;%2C%20&#1084;&#1072;&#1090;&#1077;&#1084;&#1072;&#1090;&#1080;&#1082;%25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35.xml"/><Relationship Id="rId4" Type="http://schemas.openxmlformats.org/officeDocument/2006/relationships/slide" Target="slide2.xml"/><Relationship Id="rId5" Type="http://schemas.openxmlformats.org/officeDocument/2006/relationships/hyperlink" Target="http://oberon.seversk.ru/images/stories/ppr.p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татистические характеристики на уроке алгеб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тар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 чисел может иметь более одной моды, а может не иметь моды совсем. Например, 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, 46, 50, 52, 47, 52, 49, 45, 43, 53, 53, 47, 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е моды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это числа 47 и 52, так как каждое из них встречается в ряду по три раза, а остальные числа  — менее трех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ряду чис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9, 68, 66, 70, 67, 62, 71, 74, 63, 73,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ы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500"/>
                            </p:stCondLst>
                            <p:childTnLst>
                              <p:par>
                                <p:cTn id="4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моду ряд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1, 32, 11, 75, 96, 13, 55        б)35, 41, 35, 67, 14,  7,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0, 31, 54, 95, 11                     г)12, 35, 5, 7, 9, 12, 6, 35, 234,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е. Ра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огда интересны не только средние значение или медиана, но и другие величины, связанные с наборами различных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ибольшие и наименьшие знач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о интересуют нас в самых разных област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мы хотим узнать кто победил в прыжках в длину в соревнованиях класса, то выберем того, кто прыгнул дальше всех, т.е. выберем наибольший результат. В соревнованиях по бегу победителем считается тот, кто пробежал быстрее всех, т.е. показал наименьше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азность между наибольшим и наименьшим числом называется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абора 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Мы узнали, что размах показывает, насколько велико рассеивание значений в числовом наборе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исследование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8936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500"/>
                            </p:stCondLst>
                            <p:childTnLst>
                              <p:par>
                                <p:cTn id="54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500"/>
                            </p:stCondLst>
                            <p:childTnLst>
                              <p:par>
                                <p:cTn id="5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Разм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ите наибольшее и наименьшее значение и размах данного набора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12, 7, 25, 3, 19, 15         б) 17, 19, 5, 41, 47, 13,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357600">
            <a:off x="6659640" y="3499920"/>
            <a:ext cx="107928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ло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ое свойство отклонен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умма отклонений чисел от среднего арифметического этих чисел равна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имера возьмем набор 1, 6, 7, 9, 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м среднее арифметическое: (1+6+7+9+12) : 5 =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йдем отклонение каждого числа от средн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7=-6    6-7=-1   7-7=0   9-7=2   12-7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чился новый набор, который состоит из откло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число меньше среднего, то его отклонение отрицательно, если число больше среднего, то его отклонение положит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следование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773360"/>
            <a:ext cx="790560" cy="7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6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500"/>
                            </p:stCondLst>
                            <p:childTnLst>
                              <p:par>
                                <p:cTn id="6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Дисп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бы судить о разбросе, принято складывать не сами отклонения, а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вадраты отклонений неотрицательны, поэтому сумма квадратов отклонений зависит только от абсолютных величин отклонений, а не от их зна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м больше отклонения чисел от среднего арифметического, тем больше будет сумма квадратов отклон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мера разброса чисел не зависела от их количества в наборе, в качестве такой меры берут среднее арифметическое квадратов отклонений. Эту величину называют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ее арифметическое квадратов отклонений от среднего значения называется в статистик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сперси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бора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22100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3500"/>
                            </p:stCondLst>
                            <p:childTnLst>
                              <p:par>
                                <p:cTn id="7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000"/>
                            </p:stCondLst>
                            <p:childTnLst>
                              <p:par>
                                <p:cTn id="7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я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наборов. Дисперсия, какого набора больш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7 и 1, 2, 3;       б)2, 3, 4, 7 и 1, 5, 6,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ы два набора чисел. Отметьте их на числовой прямой. Вычислите дисперсию каждого из этих наборов. Сравните дисперс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2, 3, 4 и 6, 7, 8;     б) 3, 5, 7, 9 и 12, 14, 16, 1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403800">
            <a:off x="6948360" y="4149360"/>
            <a:ext cx="1079640" cy="8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7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Дисперс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жем на простом примере, как дисперсия характеризует разброс наблюдений. Возьмём два набора чисел 1, 2, 3 и 0, 2, 4. Среднее арифметическое значение обоих наборов равно 2. Для обоих наборов вычислим отклонения и квадраты отклонений, и все данные занесём в таб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а в первом наборе расположены более кучно – ближе  друг к  другу и к своему среднему значению,- чем числа во втором наборе. Поэтому дисперсия первого набора получилась меньше, чем втор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8000" y="2924280"/>
          <a:ext cx="6120000" cy="1641240"/>
        </p:xfrm>
        <a:graphic>
          <a:graphicData uri="http://schemas.openxmlformats.org/drawingml/2006/table">
            <a:tbl>
              <a:tblPr/>
              <a:tblGrid>
                <a:gridCol w="863640"/>
                <a:gridCol w="1177920"/>
                <a:gridCol w="1020960"/>
                <a:gridCol w="896760"/>
                <a:gridCol w="1143000"/>
                <a:gridCol w="1017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й набо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лонение от среднег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вадрат отклонени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а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разность между наибольшим и наименьшим значениями результатов наблюдений. Пусть X1, ..., Xn — взаимно независимые случайные величины с функцией распределения F (x)и плотностью вероятности f (x). В этом случае размах Wn определяется как разность между наибольшим и наименьшим значениями среди X1, ..., Xn; размах Wn представляет собой случайную величину, которой соответствует функция распредел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w³ 0; если w &lt; 0, то P {W £ w}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тематической статистике Р., надлежащим образом нормированный, применяется как оценка неизвестного квадратичного отклонения. Например, если Xk имеют нормальное распределение с параметрами (а, s), то при n =5 и 10, соответственно, величины 0,4299W5 и 0,3249W10 будут несмещенными оценками s. Такие оценки часто используют при статистическом контроле качества, поскольку определение Р. нескольких результатов измерений не требует сложных вычисл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. : Хальд А. , Математическая статистика с техническими приложениями, пер. с англ., М., 1956.(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slovari.yandex.ru/dict/bse/article/00064/79600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500"/>
                            </p:stCondLst>
                            <p:childTnLst>
                              <p:par>
                                <p:cTn id="8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е 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числовая характеристика множества чисел или функций; — некоторое число, заключённое между наименьшим и наибольшим из их значений.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Средне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или арифметическое среднее наиболее широко используется в статистике. Это одно значение может использоваться для представления некоторого набора данных. В этом случае среднее значение можно назвать "центром тяжести" этого набора. Среднее значение вычисляется следующим образом: складываются все значения выборки и результат делится на общее число значений. Например, сумма набора значений.    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yberguru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programmin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pasc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/turbopascal-encyclopaedia2-page5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ее значение — числовая характеристика множества чисел или числовых функций; — некоторое число, заключенное между наименьшим и наибольшим из их значений; а также множественно-значная характеристика совокупности множеств или сет-функций; — некоторое множество, содержащее пересечение и содержащееся в объединении этих множ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www.wikiznanie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ru-wz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index.php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Среднее_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2500"/>
                            </p:stCondLst>
                            <p:childTnLst>
                              <p:par>
                                <p:cTn id="8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3500"/>
                            </p:stCondLst>
                            <p:childTnLst>
                              <p:par>
                                <p:cTn id="8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50752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Меди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Наибольшее и наименьшее значение. Раз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Дисп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Откло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Словарь.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Для тех, кто хочет знать боль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татистика вокруг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Исследование по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Приглашаем вас к сотруднич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602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ить   презент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2"/>
          <a:stretch/>
        </p:blipFill>
        <p:spPr>
          <a:xfrm rot="688800">
            <a:off x="3563640" y="1483920"/>
            <a:ext cx="571320" cy="6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500"/>
                            </p:stCondLst>
                            <p:childTnLst>
                              <p:par>
                                <p:cTn id="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лат. dispersio — рассеяние), в математической статистике и теории вероятностей, наиболее употребительная мера рассеивания, т. е. отклонения от среднего. В статистическом понимании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среднее арифметическое из квадратов отклонений величин xi от их среднего арифм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00"/>
                            </p:stCondLst>
                            <p:childTnLst>
                              <p:par>
                                <p:cTn id="9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9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50-й процентиль, квантиль 0,5) — возможное значение признака, которое делит ранжированную совокупность (вариационный ряд выборки) на две равные части: 50 % «нижних» единиц ряда данных будут иметь значение признака не больше, чем медиана, а «верхние» 50 % — значения признака не меньше, чем медиана.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ru.wikipedia.org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4"/>
              </a:rPr>
              <a:t>wiki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6"/>
              </a:rPr>
              <a:t>Медиана_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7"/>
              </a:rPr>
              <a:t>(статистика)_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термин был впервые введен Гальтоном, 1882) выборки - это значение, которое разбивает выборку на две равные части (при ранжировании). Половина наблюдений лежит ниже медианы, и половина наблюдений лежит выше медианы. Если число наблюдений в выборке нечетно, то медиана вычисляется как среднее двух средних знач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8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9"/>
              </a:rPr>
              <a:t>www.stat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1"/>
              </a:rPr>
              <a:t>hom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3"/>
              </a:rPr>
              <a:t>portal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5"/>
              </a:rPr>
              <a:t>glossary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6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7"/>
              </a:rPr>
              <a:t>glossarytwo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8"/>
              </a:rPr>
              <a:t>/M%5CMedian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- в статистике - значение варьирующего признака, которое дел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распределения на две равные части по объему частот или частностей. Су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бсолютных величин линейных отклонений от медианы минима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9"/>
              </a:rPr>
              <a:t>http://nirvana.tomsk.ru/dictionary?id=9&amp;word=%EC%E5%E4%E8%E0%ED%E0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 (от латинского mediana — средняя)  в геометрии, отрезок, соединяющий одну из вершин треугольника с серединой противоположной стороны. Три М. треугольника пересекаются в одной точке, которую иногда называют «центром тяжести» треугольника, так как именно в этой точке находится центр тяжести однородной треугольной пластинки (а также центр тяжести системы трёх равных масс, помещенных в вершинах треугольника). Точка пересечения М. делит каждую из них в отношении 2 : 1 (считая от вершины к основанию)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0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1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3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4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5"/>
              </a:rPr>
              <a:t>bse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6"/>
              </a:rPr>
              <a:t>/166012/Меди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32"/>
          </p:cNvPr>
          <p:cNvPicPr/>
          <p:nvPr/>
        </p:nvPicPr>
        <p:blipFill>
          <a:blip r:embed="rId33"/>
          <a:stretch/>
        </p:blipFill>
        <p:spPr>
          <a:xfrm rot="358200">
            <a:off x="7308720" y="62064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9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500"/>
                            </p:stCondLst>
                            <p:childTnLst>
                              <p:par>
                                <p:cTn id="9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500"/>
                            </p:stCondLst>
                            <p:childTnLst>
                              <p:par>
                                <p:cTn id="9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500"/>
                            </p:stCondLst>
                            <p:childTnLst>
                              <p:par>
                                <p:cTn id="9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4000"/>
                            </p:stCondLst>
                            <p:childTnLst>
                              <p:par>
                                <p:cTn id="9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500"/>
                            </p:stCondLst>
                            <p:childTnLst>
                              <p:par>
                                <p:cTn id="9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500"/>
                            </p:stCondLst>
                            <p:childTnLst>
                              <p:par>
                                <p:cTn id="98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варь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тех, кто хочет знать больше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Взгляд в будущ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УНКЦИИ -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функция не имеет большего (меньшего) значения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ic.academic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dic.nsf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enc3p/20757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ьшее и наименьшее значения функции, понятия математического анализа. Значение, принимаемое функцией в некоторой точке множества, на котором эта функция задана, называется наибольшим (наименьшим) на этом множестве, если ни в какой другой точке множества функция не имеет большего (меньшего) значения. Н. и н. з. ф. по сравнению с её значениями во всех достаточно близких точках называются экстремумами (соответственно максимумами и минимумами) функции. Н. и н. з. ф., заданной на отрезке, могут достигаться либо в точках, где производная равна нулю, либо в точках, где она не существует, либо на концах отрезка. Непрерывная функция, заданная на отрезке, обязательно достигает на нём наибольшего и наименьшего значений; если же непрерывную функцию рассматривать на интервале (т. е. отрезке с исключенными концами), то среди её значений на этом интервале может не оказаться наибольшего или наименьшего. (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www.cultinfo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fulltex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/1/001/008/079/808.h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                                                                             </a:t>
            </a:r>
            <a:r>
              <a:rPr b="0" lang="ru-RU" sz="18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 rot="358200">
            <a:off x="7308720" y="981000"/>
            <a:ext cx="447840" cy="4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зюме к глав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Показатели ВРС у здоровых людей. Оценка «здоровья здорового челове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лаве суммируются собственные наблюдения и результаты ряда работ, которые позволяют следующим образом сформулировать основные параметры ВРС, характерные для здорового человека. В таблицах 5-2 - 5-4 приведены показатели математического анализа ВРС, полученные при обследовании практически здоровых лиц молодого возраста. Учитывая, что распределение показателей ВРС отличается от нормального, все данные представлены в виде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ди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интерквантильног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зма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Интерквантильный размах указывается в виде 25% и 75% перценти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neurosoft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u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roduct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book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hrv-2/chapter5.asp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0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нетика повед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behavioralgene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годняшний день мы можем определить наследуемость как отношение генетической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исперс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общей, или фенотипической, дисперсии: h2 = VG/V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sexualdysfunction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148.html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нализе валовой прибыли изучаются причины, вызывающие ее изменение, соответствующие факторы отражаются в отчете и позволяют принять корректирующие ме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клон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цене продажи и в затратах на единицу проду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объеме продаж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я в ассортименте прода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ные для согласования фактических операций с бюджетными значениями получаются на основе анализа изменений между фактическими и бюджетными операциями за текущий год, между фактическими операциями предыдущего года и соответствующими операциями текущего года. Могут рассматриваться изменения в валовой прибыли всей компании или выбранной продуктов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www.iteam.ru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ublication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finances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section_11/article_338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я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регионам РФ аномал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реднегодов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возд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тклонение от средней темп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зов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рная кривая показывает 11-летн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зящее сред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зан линейный тренд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limate.mecom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bulletin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2002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4500720" y="1413000"/>
            <a:ext cx="4555800" cy="482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8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12000" y="620640"/>
            <a:ext cx="64908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истика 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572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чет средней заработной платы работников предприятия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онд оплаты труда составляет 40000 единиц, работников всего 100, следовательно, средняя заработная плата составляет 40000/100 = 400 единиц. Однако эт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арифметическая величи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но не соответствует интуитивному представлению о "средней зарплате". Из 100 работников лишь 5 имеют заработную плату, ее превышающую, а зарплата остальных 95 существенно меньше средней арифметической. Причина очевидна - заработная плата одного человека - генерального директора - превышает заработную плату 95 работников -  низкоквалифицированных и высококвалифицированных рабочих, инженеров и служащ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ых табл.1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едиа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- среднее арифметическое 50-го и 51-го работника, если их заработные платы расположены в порядке неубывания. Сначала идут зарплаты 40 низкоквалифицированных рабочих, а затем - с 41-го до 70-го работника - заработные платы высококвалифицированных рабочих. Следовательно, медиана попадает именно  на них и равна 200. У 50-ти работников заработная плата не превосходит 200, и у 50-ти - не менее 200, поэтому медиана показывает "центр", около которого группируется основная масса исследуемых велич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ще одна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редняя величина - мо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иболее часто встречающееся значение. В рассматриваемом случае это заработная плата низкоквалифицируемых рабочих, т.е. 100. Таким образом, для описания зарплаты имеем три средние величины - моду (100 единиц), медиану (200 единиц) и среднее арифметическое (400 единиц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блюдающихся в реальной жизни распределений доходов и заработной платы справедлива та же закономерность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да меньше медианы, а медиана меньше среднего арифметического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0" y="1981080"/>
          <a:ext cx="4392720" cy="3132360"/>
        </p:xfrm>
        <a:graphic>
          <a:graphicData uri="http://schemas.openxmlformats.org/drawingml/2006/table">
            <a:tbl>
              <a:tblPr/>
              <a:tblGrid>
                <a:gridCol w="431640"/>
                <a:gridCol w="1224000"/>
                <a:gridCol w="936720"/>
                <a:gridCol w="863640"/>
                <a:gridCol w="93672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работник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работни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ммарные доход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оквалифицированные рабоч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женеры и служащи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неральный дире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ладелец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4643280" y="6165720"/>
            <a:ext cx="4392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1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4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5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43640" y="981000"/>
            <a:ext cx="649440" cy="60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0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лашаем к сотрудни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елаем успехов и удач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бедев Александр Станиславович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варж Галина Юрьевна 7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асточкина Ольга Геннадьевна – 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rot="21462600">
            <a:off x="0" y="2133360"/>
            <a:ext cx="3132000" cy="2293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rot="183000">
            <a:off x="6086160" y="2133360"/>
            <a:ext cx="2916360" cy="2309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9640" y="630864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ческое иссле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аша цел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крыть особенности статистических характеристик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Изучить и обобщить собранный материал по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Создать творческую разработку в виде реферата, медиапродукта и приложений к 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Научиться решать и составлять задачи по статис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Выявить удивительн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ипотеза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начать  исследование с рассмотрения  основных положений описательной статистики с разных точек зрения, то отыщутся различные объяснения и ключи понимания её значим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тельная статис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реднее арифметическое, медиана, размах и  мода, наибольшее и наименьшее значения, отклонения и диспер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4400" spc="-1" strike="noStrike">
                <a:solidFill>
                  <a:srgbClr val="000000"/>
                </a:solidFill>
                <a:latin typeface="Webdings"/>
                <a:ea typeface="Webdings"/>
              </a:rPr>
              <a:t>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пределение.  Средним арифметическим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кольких чисел называется число, равное отношению суммы этих чисел к их количе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угими словами, среднее арифметическое - это дробь, в числителе которой стоит сумма чисел, а в знаменателе - их коли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вычислениям средних значений прибегают во многих задач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ния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8000" y="170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4969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Начала»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801864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ты профессиональный статист, то чем бы тебе пришлось  занимать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е бы ты решал статистические задачи и к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й области знаний человечества они принадлежа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ь данных характеристик в описательной статис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???? 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360" y="836280"/>
            <a:ext cx="66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ыдвигаем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6000" y="198072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нужно понимать под терминами «статистика», «числовой   ряд», «среднее арифметическое», «медиана», «размах» и «мод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Зачем нужны эти статистические характерист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ожно ли их сравнивать? Чем объясняются отлич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ая из характеристик наиболее полно отражает явл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ие задачи можно реш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оиски подхода к решению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Как выяснить, существуют ли различные способы и методы реш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Какой области научных знаний принадлежат  задачи описательной статисти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серии «Школьная статистика»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7280" y="1773000"/>
            <a:ext cx="734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ьте упорядоченный набор чисел, вычислите среднее арифметическое,  медиану,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Times New Roman"/>
                <a:hlinkClick r:id="rId1" action="ppaction://hlinksldjump"/>
              </a:rPr>
              <a:t>размах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и моду, если учащиеся считают, что в учебе предпрофильная подготовка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ает значительно-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могла, но не значительно-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актически не помогла-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573360"/>
            <a:ext cx="914400" cy="1079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4797360"/>
            <a:ext cx="792000" cy="432000"/>
          </a:xfrm>
          <a:prstGeom prst="can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781360"/>
            <a:ext cx="720720" cy="865080"/>
          </a:xfrm>
          <a:prstGeom prst="can">
            <a:avLst>
              <a:gd name="adj" fmla="val 165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860360" y="486900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назад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ни -  задачи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сер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«Школьная статистика»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школе открыты классы по некоторым образовательным направлениям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оставьте упорядоченный набор чисел, вычислите среднее арифметическое,  медиану, размах и м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47640" y="2870280"/>
          <a:ext cx="590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70280"/>
                    <a:ext cx="590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1042920" y="506412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меча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Данные для нахождения статистических характеристик могут быть оформлены в виде диаграмм, а могут -  в виде таб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ологический 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560" y="1197000"/>
            <a:ext cx="4033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Исследования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ISA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выделить главную мысль т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е находить заданную информацию в т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имание связности и последовательности соб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917960" y="1268280"/>
            <a:ext cx="3927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Школьные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 сн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том же уров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ш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32000" y="2924280"/>
            <a:ext cx="165600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8360" y="1916280"/>
            <a:ext cx="136872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1916280"/>
            <a:ext cx="1511280" cy="57600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3640" y="3933720"/>
            <a:ext cx="2232000" cy="647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716280"/>
            <a:ext cx="1152720" cy="57456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6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2852640"/>
            <a:ext cx="1871640" cy="57492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582080"/>
            <a:ext cx="70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 №1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авьте два набора чисел. Вычислите отклонения от среднего и их квад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техники чтения в 5-9 классах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последние 5 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4360" y="2276640"/>
          <a:ext cx="8064360" cy="2329920"/>
        </p:xfrm>
        <a:graphic>
          <a:graphicData uri="http://schemas.openxmlformats.org/drawingml/2006/table">
            <a:tbl>
              <a:tblPr/>
              <a:tblGrid>
                <a:gridCol w="666720"/>
                <a:gridCol w="933480"/>
                <a:gridCol w="933480"/>
                <a:gridCol w="666720"/>
                <a:gridCol w="733320"/>
                <a:gridCol w="733320"/>
                <a:gridCol w="733320"/>
                <a:gridCol w="696960"/>
                <a:gridCol w="820800"/>
                <a:gridCol w="11462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ю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-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-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-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476712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42920" y="4579560"/>
            <a:ext cx="68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1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ставьте упорядоченные ряды. Найдите медиану,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од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дание №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Вычислите наибольшее и наименьшее значения, отклонения. Вычислите дисперсию (это можно будет выполнить, если будете читать дальш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назад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41228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рму вычитывают  около 62% процентов учащихся, выше нормы 16%, ниже нормы 21%. При скоростном чтении допускают ошибки примерно 37% учащихся.Мы заметили, что  техника чтения  в 6 и резко в ..7 классах падает и ниже нормы соответственно  на 24% и 40%, увеличивается процент читающих хуже до 31%  в 7 клас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пилку мет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оветы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й теоретические сведения и да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ери путь, по которому может пойти решен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гда решил задачу , подумай над результ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ивление полученным результатом рождает мысль  и ведет к новым исслед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  решающему статистическую задач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орядочи числовой набор, т.е. запиши числа в порядке возра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тобы найти медиану,  в числовом наборе нужно выбрать одно  число посередин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ибо  два  числа и найти их  полу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 rot="864000">
            <a:off x="1763640" y="5157720"/>
            <a:ext cx="417600" cy="43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Дале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назад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 смысложизненных ориентиров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 rot="21000000">
            <a:off x="865080" y="1909440"/>
            <a:ext cx="1677960" cy="1258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 rot="20955600">
            <a:off x="6516720" y="1773000"/>
            <a:ext cx="1655640" cy="1172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 rot="767400">
            <a:off x="6156000" y="3645000"/>
            <a:ext cx="1563480" cy="1173240"/>
          </a:xfrm>
          <a:prstGeom prst="rect">
            <a:avLst/>
          </a:prstGeom>
          <a:ln w="63360">
            <a:solidFill>
              <a:srgbClr val="99ccff"/>
            </a:solidFill>
            <a:miter/>
          </a:ln>
        </p:spPr>
      </p:pic>
      <p:sp>
        <p:nvSpPr>
          <p:cNvPr id="243" name=""/>
          <p:cNvSpPr/>
          <p:nvPr/>
        </p:nvSpPr>
        <p:spPr>
          <a:xfrm rot="20598600">
            <a:off x="1115640" y="3068280"/>
            <a:ext cx="1430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0598600">
            <a:off x="1185840" y="3570120"/>
            <a:ext cx="1297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16000" y="486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16720" y="2924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479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64000" y="3068640"/>
            <a:ext cx="18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51280" y="1916280"/>
            <a:ext cx="1584360" cy="1029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9640" y="609300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971640" y="3645000"/>
            <a:ext cx="1727280" cy="12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3588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ассмотрим данные о производстве пшеницы в России в 1995-2001гг.(в миллионах тонн).Они приведены в таблице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Таблица 1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оизводство пшеницы в России в 1995-2001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Как видно из таблицы 1,производство пшеницы в разные годы различается. Оно зависит от погодных условий, площади посева и других обстоятельств. Поэтому производство пшеницы за один год не даёт полного представления об уровне производства пшеницы в стране. Для этой цели лучше использовать среднее значение за ряд лет. По данным таблицы мы можем вычислить среднее производство пшеницы за 7 лет. Для этого надо сложить годовые сборы пшеницы и затем сумму разделить на число слагаемых. В данном случае получ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0,1+34,9+44,3+27,0+31,0+34,5+47,0)/7=3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аем, что среднее производство пшеницы в России за рассматриваемый период 1995-2001гг. составляло приблизительно 35,5 млн. тонн в год. Вычисленное нами значение назыв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средним арифметическ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ли прост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ред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2276640"/>
          <a:ext cx="7093080" cy="655560"/>
        </p:xfrm>
        <a:graphic>
          <a:graphicData uri="http://schemas.openxmlformats.org/drawingml/2006/table">
            <a:tbl>
              <a:tblPr/>
              <a:tblGrid>
                <a:gridCol w="1500480"/>
                <a:gridCol w="731520"/>
                <a:gridCol w="648000"/>
                <a:gridCol w="720720"/>
                <a:gridCol w="831600"/>
                <a:gridCol w="889200"/>
                <a:gridCol w="885600"/>
                <a:gridCol w="88596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45720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Среднее арифметическ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ица 6. Производство пшеницы в России в 1995-2001 г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ите по таблице среднее арифметическое производства пшен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было производство пшеницы в 1996 г., в 2000 г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падает ли производство пшеницы в среднем за 7 лет со значением в каком-нибудь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аком году производство пшеницы бы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Наибольшем                 б) Наименьшем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2205000"/>
          <a:ext cx="8496360" cy="919080"/>
        </p:xfrm>
        <a:graphic>
          <a:graphicData uri="http://schemas.openxmlformats.org/drawingml/2006/table">
            <a:tbl>
              <a:tblPr/>
              <a:tblGrid>
                <a:gridCol w="2124000"/>
                <a:gridCol w="684360"/>
                <a:gridCol w="803160"/>
                <a:gridCol w="955800"/>
                <a:gridCol w="955440"/>
                <a:gridCol w="954360"/>
                <a:gridCol w="1063440"/>
                <a:gridCol w="95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ство, млн. то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49000">
            <a:off x="6080040" y="4610160"/>
            <a:ext cx="935280" cy="7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ди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лько среднее арифметическое показывает, где на числовой пря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ются числа какого-либо наб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м показателем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а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число, которое разделяет набор чисел на две части, одинаковые по числен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ясним на примерах, как найти медианы разных наборов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исследование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ры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1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зьмём какой-нибудь набор различных чисел, например 1, 4, 7, 9, 11. Подберём числ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так, чтобы в наборе оказалось поровну чисел, которые меньше и которые больше чем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 пробу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5. Два числа в наборе меньше чем 5, но три числа больше чем 5. Значит, число 5 не годи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еперь возьмё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=7. Меньше числа 7 два числа, больше числа 7 тоже два числа. Следовательно, число 7 делит этот набор  на две равные части. Число 7-медиана набора чисел 1, 4, 7, 9, 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этом примере набор состоял из 5 чисел, записанных в порядке возрастания. Медианой в этом случае оказывается число, стоящее в точности посереди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Рассмотрим набор 1, 3, 6, 11. Числа тоже записаны по возрастанию, но их четыре, поэтому среди них нет числа, стоящего точно посередине. В таком случае нужно взять два числа, расположенных посередине, и вычислить их полу-су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3+6):2=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дианой этого набора считают число 4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 к тем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ражнение по теме «Меди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ислите медиану чисе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1, 3, 5, 7, 9         б)1, 3, 5, 7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1, 3, 5, 9, 11        г)1, 3, 5, 7, 9,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186000">
            <a:off x="5433840" y="3544920"/>
            <a:ext cx="100836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e7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ересно, например, знать, какой расхож времени является типичным для выделенной группы учащихся, т.е. какое число встречается в ряду данных чаще вс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трудно заметить, что таким числом является число 25. Говорят, что число 2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рассматриваемо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я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одой ряда чисел называется число, которое встречается в данном ряду чаще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Задач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пример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исследование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63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09:14:58Z</dcterms:created>
  <dc:creator>XP GAME 2008</dc:creator>
  <dc:description/>
  <dc:language>en-US</dc:language>
  <cp:lastModifiedBy>User</cp:lastModifiedBy>
  <dcterms:modified xsi:type="dcterms:W3CDTF">2009-03-02T08:57:02Z</dcterms:modified>
  <cp:revision>32</cp:revision>
  <dc:subject/>
  <dc:title>Название презентации</dc:title>
</cp:coreProperties>
</file>